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78B3-C11B-43C8-979C-C3742B267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05A8-B566-4518-91EF-E85895B11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2E1D-3E65-4733-99E3-74A7D1079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F392-4677-4B3E-A934-633BDD292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E05D-4EFB-429F-9713-585758ED5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C8DF-31DD-4DA2-B822-9E1CA52DC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A113-07F6-419A-B4B5-8D6B25103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E350-E911-482D-8814-77DE0B549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12DA-D658-4F88-B4A0-F61FC8675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2DBE-6FB2-44C7-BE67-6AE63E809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74FD-1EA2-4A14-96EF-26CEC990C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73D7-7C57-410F-B786-CD2FAE26B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6CAB9-693A-482D-A119-270917FA3F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www.3dexport.com/models/6894/7012/chinese_opera_masks_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304560" y="2133720"/>
            <a:ext cx="47242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veryone wears a mask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Mask hides people’s inner feeling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Mask changes people and who they ar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Mask gives people courage and confidence to do things they never coul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utting on a mask is everyone’s routi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here are as many mask as there are people and everyone is as different as their masks ar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On one can truly understand someone else's mask and no one else can truly understand your mas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Mask are what people wea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Rectangle 4" descr=""/>
          <p:cNvPicPr/>
          <p:nvPr/>
        </p:nvPicPr>
        <p:blipFill>
          <a:blip r:embed="rId2"/>
          <a:stretch/>
        </p:blipFill>
        <p:spPr>
          <a:xfrm>
            <a:off x="-212760" y="66600"/>
            <a:ext cx="7253280" cy="19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6T14:30:58Z</dcterms:created>
  <dc:creator>12jlin</dc:creator>
  <dc:description/>
  <dc:language>en-US</dc:language>
  <cp:lastModifiedBy>12jlin</cp:lastModifiedBy>
  <dcterms:modified xsi:type="dcterms:W3CDTF">2010-12-10T18:54:34Z</dcterms:modified>
  <cp:revision>5</cp:revision>
  <dc:subject/>
  <dc:title>Slide 1</dc:title>
</cp:coreProperties>
</file>